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23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24.png" ContentType="image/png"/>
  <Override PartName="/ppt/media/image19.gif" ContentType="image/gif"/>
  <Override PartName="/ppt/media/image16.png" ContentType="image/png"/>
  <Override PartName="/ppt/media/image15.png" ContentType="image/png"/>
  <Override PartName="/ppt/media/image14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766-EF1D-4539-BF3B-F9A2380E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F1F-4B4F-4393-BED3-90042242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F7A33-6389-40D5-826B-761CAE8C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EFECD-5136-4BC7-8E82-ADFB0141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1F84A-FAC3-4E84-BEB0-A9D9778E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404D6-1FF7-48C2-9B89-79026A0E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43FCD-10A7-49A1-9BE5-5DC25114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FFF96-CC97-44E9-AB8A-E17A3309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F1CC1-7A6D-4BE8-A23C-BEC8120A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67E49-EF7B-48D3-8418-99AADAA0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E6035-038D-46BC-B8D0-B49127F8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BC104-94B2-4449-A157-9035E528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068A-7FE7-473E-9F2B-903C4D92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F38A1-AB31-496B-9455-CA145885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2DD83-2613-4B60-8C4A-385993F2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632F5-4ED3-464C-B785-FC0F1EAD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F76E0-5AE3-4AD3-87C8-AA463349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9FD11-FFCC-4DF8-94DB-B3817E94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611AE-0EBD-494C-B1E6-5BB24FA6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BBB55-3910-4106-8A11-F3E8A238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91E41-1123-426C-870E-8D87BE23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6FA91-57D2-4734-B0F1-07123ECA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84E51-1899-4E61-9A93-46CAA876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B7B-F3FA-4895-933F-DA9AC6B5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EFB54-A386-409A-8479-7006A2E9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C68A3-2554-4F2B-BEF1-AE4D7A0F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3CE2C-B643-4888-8902-593AF53F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B6299-41B1-445E-8E33-2DBDC0DA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6BAC9-968C-46AC-9B70-2B5D0EC9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6C28F-12C6-46E8-85AD-725768A1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99DD9-889F-4B6A-92C5-F5ECC507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366D3-83D4-4C04-8D20-E422E610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C4E6A-E9AD-4839-81CD-DD0D7B7B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4B406-52CA-4E37-BB67-D98CF317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FB4E-38B9-4046-9DF3-BFC8DCD6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8E5D6-A3AC-4DD0-928C-7AB3A5F9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56A20-1270-437A-80A9-22914730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F6C3C-71EA-4DF5-AA7E-F7925FAA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37FEB-4F1A-4502-A492-CA4F557F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210BA-0A6B-45CD-8DAB-F8DBFAC6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DD72F-45F8-43FD-9D67-BB815F40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AAC68-6B9D-4730-B917-73ADD679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E618B-2D92-4098-AB9A-AEEE77F7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84444-BDB2-4AD2-8E37-8CE4272B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572E7-1543-4B5A-BC92-A41B6E4D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441C-C3E4-4A73-A95F-69413970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E11F3-3047-4325-A8D1-802BD77C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C2CAF-B0E6-40A2-9A83-C31DF320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94B97-DF67-4ABB-9890-4ADFE338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E8229-06D3-4B62-9075-28700D32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CE513-A6BC-4C63-A4A5-C97B7850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83032-7791-42E8-966F-E1F2321D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013BAC-7EB8-46D6-8EAC-6C75A258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83ED63-4853-42C5-8F95-23DF6400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06C8B-9051-40FE-87F6-0A76466E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817C2-07D2-4BAE-9412-B10BB9DA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6CF2-3762-4B21-89AE-279387FE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9133A-A4BE-47C1-8D2D-4D964BE8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C4D94E-FD65-490D-9A5E-5071CA65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CD5B4D-7125-494E-84E3-38533E4E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40A5BB-9298-414A-91BE-ABCB5F87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2A3BF-D210-4EED-8705-3F2E43DB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D321F-B2B6-4F3C-A5BA-E5B5423C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82A09-1289-4878-8ECD-59EB720F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FEADC1-7448-4334-9871-8E1E2F77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2E9E1-D745-4B1D-A870-7E93E604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43539-9372-4473-B94C-97F9F64B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0A5D-C490-46B7-9901-E6D4C151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070BC5-8053-4BAC-89C5-D885C8D4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2CCF96-D78B-4D3B-81C7-8259EF27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A61E15-9D65-46F7-97D0-3D33E219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96D43D-E294-4B00-908B-BB922240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576DD1-11CA-4128-A54F-409AC9AE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5277E-8247-4452-88FA-58BA912D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942BE8-6DEC-4F2B-94C7-8B4107DD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039FF4-0A47-4358-819A-AFB6C769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4620E0-43EA-47EA-80A3-9A16DB2C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EE02B-97C8-4651-AD4B-FD6D4518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C712-30EF-4AD3-B6A1-D19BD202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357C25-BA39-4684-9B9C-1ABE4998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267F05-D8F3-49A8-81A6-1D1225DF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B6CD3-BCC4-42FC-8BAE-4DB59F6D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051A44-9F4A-42A6-8F24-D13D1705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DE068C-EFE9-4E6A-A4F0-ECC42682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E5759C-FFDD-4577-8B8E-74B5F1F2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4E13D5-1354-40A4-A6A4-91155BA2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014843-B429-4F8A-B2D4-AA4A2075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92B5C5-3F9F-4F02-B640-EE15165F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D00DB3-827E-48D8-AB59-5154C0F3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5F3A-43EF-4191-A666-59846BF7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7E7E73-DCA8-484D-8830-6C1B5A4D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D3FEE3-67C4-4178-B31A-51F2ABB8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55765-1EC2-4F0D-9600-26DE4D16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1C087B-3F75-41D6-98FE-21FED5CC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4E3AE9-194D-4024-8690-18D48E3D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635154-8876-4844-9B7E-C41C1128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9CA872-B653-4D8D-BD51-C6B80D22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0171F0-3B90-49FF-A9BD-A581C701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0A9E42-E7FB-4DC4-9332-88AAE106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A14DE9-F7D1-400E-B0F5-7D699ABC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590B-6959-4D12-83AB-B3CFEBB6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8EA1F0-92F8-4F68-8919-F1FD584A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5F7958-6412-4082-ABB6-A5D4E235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E1E8D-32D5-4E73-9D64-DD9E6D0E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9D556A-F860-4F06-9A28-9D340AEB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80B46D-34D3-4FF2-AB4F-35FEE8E3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47966-EE62-4A39-8472-784DAD96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346250-4167-4D03-A1DC-84ED2F94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29FD6E-9F25-4EC8-89C2-6A82E8EF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C84B3A-851F-419F-8B1F-2E9A868A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2A091E-8CA8-408C-9C9E-585A2556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DF3-A4A8-4574-83F9-67B2C4F7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22DF-AD9D-4BF1-9D83-A7E9C492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B8C581-594E-4892-A4BB-D825FAC3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8C805E-B9AE-4361-A77A-D3257E4E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E94D5E-965B-485A-B0E6-AA7F34FB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E6C138-D5B5-43AF-8475-9AB71CC4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FC7F00-9D3D-4CEC-9949-FF08CC04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3A6D6F-0B9D-47C8-98B5-F959B58E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68D38C-6127-4742-ABE7-BA88AF88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400695-EDB3-4692-9907-CE30BA6C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F7C054-FBC1-421C-8511-431A1737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71B9F6-CBF5-4C00-846A-127B59D1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E788-5BAD-4986-B120-BFB45BD9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0F9E97-36CB-444B-872A-CDDBCCE4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CFC2A0-DEDE-47D7-AB66-B25F7C68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42B6EC-6FDB-4054-97A5-F0B44EAD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DF095D-2DA7-45C1-B404-E1EE9E53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DB08BB-7DDF-4F7B-B070-648CD275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3D3BF1-0CEE-4BE0-9D85-81F59F25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29B636-61F5-47F9-A975-72093706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C38357-F840-4F07-B300-504838C2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50FEC0-B2C5-487D-A580-EC4651BC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7641FB-BF1D-4F25-A9A4-FAFDE10A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2C9A-A372-473B-B441-E811CCA5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B34FC8-8548-45F2-A86C-ED1DF174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66CD69-F38F-4E03-96F8-40A4CA5D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D774F3-A1D9-4C2E-BAE3-A10CF1D3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2F36D6-11CF-45C8-9778-DC70E584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7C9A63-F137-44A7-A4DF-F0D1191D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47225D-AAE8-4DE2-8762-7349EF82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D77201-5A60-441C-8B2A-9FD1E4BA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6F25A-764A-4784-9BDE-FD04672E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CF1E24-3CA9-476A-A9B7-B7639B2B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DFAD4F-D78E-4174-9D1B-3A4075EE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3ACD-75B1-4FB3-BD01-F122689C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394255-45D7-4DDA-BCE6-B9732CB5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01CCF8-C3CA-4AA6-8A88-6780D887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19856F-F09E-4E12-B416-F6B17C8A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190194-6005-4D20-BCA2-55142218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A08CD5-9939-463C-A700-DE26172C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2E767D-1EA3-4237-A521-4FBB9F22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B837A3-7B14-4560-ABBF-8D6B4F1D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879B07-1F75-450C-96E8-8AD75AAD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C91D5-577E-4F74-A5C8-62B39287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A1566D-8023-4AC3-AB7E-145060D6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6C47-05AB-4A72-B3D4-FC48B203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FA2A46-8E06-4BEC-A1F7-32E95DE7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4FC06D-2C31-4FAB-9B07-FFF3A914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8537CE-5288-48C7-9A8D-2E043EAD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064469-0155-4697-BBCD-DD5DD77C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199F31-0A2A-44D1-9819-DFB501DE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7D0BA3-16EB-48BB-A0FA-2850885A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82E916-3305-462D-8551-E9A10B63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F33051-22C8-4F03-9030-FD8F09C2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BA863A-070A-4148-A878-EBF52609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DA68ED-FBA6-47AB-B592-D9C13E39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EFC32-BD69-4F07-84EA-82C32B1F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FB14D5-CEDA-49C8-BF9F-3E9614D2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45EE8E-5FDC-49A3-88CC-678AFC7A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78E1A9-C5D7-48B4-A8A4-B94A0215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F41129-CC17-42FA-86C7-CF7AB28E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2584A4-53AA-48C3-AC52-2AD29A02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E695D5-58E4-40E8-A08D-290BE916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69D6AC-4FF8-4AD5-BF05-211913A6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F475B7-E8A7-4630-9E0D-1957E6A3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96AE74-4BEA-4C2C-B5B0-C6D7BE6F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BF6A11-69BE-408C-9695-8D15EEDE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A034-BE19-4836-A5CD-B127286F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D1C9D8-6208-409B-8AD3-14B708C2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EBE84F-7FA7-452C-9DA9-2B500321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0515A9-6DAD-4F48-B023-436AE938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A732C6-A91F-4904-BA33-2A7D7652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A10D24-C5F0-4CD0-9554-2819E398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7334F4-93C2-41F5-8EE7-663B86B4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6A20DC-475F-4BBE-BA3C-726835AF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66A5A1-F5BB-443E-BD90-5E630343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B68392-B18C-4F52-A52C-8C0C3D65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578D2B-F42D-4E94-86D8-C4017765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9D557-DBD8-4583-910D-C619DAF4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5C6E6A-6156-4E95-9BA2-90D8E301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2F30E2-69A4-4A87-AEF0-89382B40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9F5935-F492-483F-94B9-181350EA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2B3753-65C3-4A28-B24C-2907069C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B53653-6DE1-4E7B-85F9-19D7B59E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C71FDF-A4FE-451C-8D50-3D8B6968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2DEBEA-9E5A-464F-B71C-ED46DFF9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147927-F5FE-49EB-A101-3FE59F51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02A68C-82AF-4A8F-BCA1-DF695AC7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FEB3B1-C375-4DF2-A30F-84E1A8BE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62ACD-E612-4B9A-B523-F10CFB93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BAF700-E1DD-41C1-9FC3-B515B60A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82B16D-F01D-4828-B53E-6ACC3897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67A59E-E862-4DBA-A1B2-FBB0D6EA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DE3C23-480B-4F38-B5E8-20A80BFA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3F139B-33F8-4676-A436-0AD2D7FB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2FC35E-F37C-4D89-AC98-1939B87A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44D462-734F-4E24-8691-B73AA714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FA645A-EF99-40D0-93B7-F1903DC0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3D9A42-D5C0-462C-A468-AF690A6B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DAA753-9C0E-410C-8EEB-B58E1CDB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6A08D-060C-4503-9E5B-40A13B1E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123176-A133-4C1C-9CC4-8A8CC9F3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2A97FD-E9AF-4A98-A4C6-AFB8AD94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F82116-5D59-4E33-9FC3-B2A65C6B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2451B6-9351-4EAB-9248-58827826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14DB98-F79C-42CF-9B0E-2C454928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4E431A-4CEB-43EC-AF36-3E966549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3056C3-5A50-4FDC-9E17-ECD6B394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61693F-819F-4C04-AB93-25EA992F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8DC0B3-8827-4D17-9950-746445F4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4C03AD-891E-4627-A8C0-AF1A3D2D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D35-0757-47F1-AA69-34B8DA14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48C68-2173-48E6-8B44-800C5177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D41F35-B91B-4503-96D7-2C300540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E00570-490A-4081-8982-6B9D2890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BE2DEE-1847-4A3A-9A39-A9334823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D2C8B6-6ACD-42EA-A7CD-425F386E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A5A1EB-4BAC-42D1-8CDB-6EDD4D84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176065-39EA-4989-BEEE-E11D8492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F08A4A-8584-47B6-A9E0-F03631BE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36919C-EE0C-45D8-9637-BDAD8BC1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0C03E1-F6B3-4C5A-8F06-2B527048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4A9DBD-83B8-4EE0-9338-74F4A7FA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80228-1944-44D6-993C-F6475D3C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2450AE-0D2C-401E-BC4E-FB63C959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87D0A5-0053-4D99-A1D5-8C89D950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4BA7F4-9D0A-43E6-830F-11859296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F73166-4899-4F4F-9801-8DFB2D39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866AF8-4981-40FA-AFFC-1ED8F6FC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0D4CA4-788E-4868-978F-8460C3B9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04316E-B6C7-436B-85DD-F2B33103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CD1B50-ECB6-4E61-A536-8D7B1564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BEF86B-6B35-4C29-8C15-2E7230E8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972692-474D-470B-808A-0DC4CE31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FEB81-A8EC-4474-AA84-19F14BE9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ED08FA-EA97-4A0D-AEF0-9EE46B66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A38106-FBA2-4112-9656-0ED4311C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646605-EA5C-435E-A3F5-79AD8B9A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40E55F-B6B1-4577-8FC7-D1195A12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BE89CE-DAB1-4C84-AF96-31B85E41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9AF3B0-5FD8-4AFF-A8E7-1FE35E00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C723DE-EF84-463E-8934-67733EE4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57ED0F-2BAB-4FEA-A0D9-0A9A52B2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7E8C40-56A9-4FBC-8700-B959BDFD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48243B-3365-4713-B655-782C6953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F9614-EB53-400E-8C64-5968AFBD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5A08B2-83E0-4B63-85AA-4EA2DD2B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D26A6E-A62C-41C0-8E80-113C828B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E268E3-AF2E-4D83-A437-7FDFAB06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D7AE64-0DBC-4479-BBE9-D987DC94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E32502-4438-4825-9B2B-ADE2F10E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85093E-E091-4E67-A2A7-26CC6D31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355EF5-7841-41FF-A0EE-6D8F875C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5EDC33-6729-4137-86BA-5D69068A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563998-F5F1-49A4-9220-B71613B1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780F6B-8B28-4266-AC41-87C1A063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F2717-4760-4A00-A458-0A261980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B74DB8-6C2E-4C2D-93BC-8F35C296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7CB5E4-278E-4725-B019-663451D3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D63A1A-542E-4FD6-BDE4-69437CCB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E7F1F8-276D-423B-BC8A-E8D49A2B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D822A3-911E-4DAE-AAE5-91757AEB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04DFF5-607B-4484-BD04-B3F10E3F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A94B29-CA14-42E0-886E-760DA580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189038-65ED-4E55-A67C-21B4B21F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0E5403-3459-4FDE-83C5-522D7DD2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9CD6A8-5D5B-43C2-901F-7DE19419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CC2C2-A59F-403B-99DF-AA808124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F11C8C-EA7F-4DAF-9F70-755EABB3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6E34D2-BF44-460F-9E88-54D9A3F2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2D35A2-564D-4097-A0E3-2E7446EF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9F4577-073C-4D37-A241-3A9515C3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45AC6F-2359-4C43-8BC7-3B0E82C4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5E5F77-D637-45F0-B660-DD411559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FDEFEA-B64C-4D4A-ADEB-55D350BD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29B403-FD0C-44B4-A76C-F2902EA3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BA6C80-9178-45AF-BDF5-77C1FE5B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D0E40C-8950-45C0-9FDA-C37F0470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9CEF6-05AD-4ECA-A5E7-05AF2073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5999B3-1516-46A7-8D13-750CFC77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BC3F18-E0BB-4C38-985F-50B2DDEE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9C54A9-1F8E-42D3-9E36-2CA93732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1E142E-163B-4AF3-A186-8F8958E5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1BE66A-FCD9-4738-8C6A-1C15A74B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9BAD91-A9C9-47A5-A1C4-05048B90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8B06CB-6CF8-4378-AB87-A83F8A08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6F0DCB-668B-428E-AE59-626CC204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FC33D0-0221-4586-9E6B-8C4A1313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925BBE-6BA8-4DA2-A421-ABDA7CD6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BDC0E-1C2F-4F5E-9F5B-12D99364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E5BBE5-EA83-4ADF-9F49-98056302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345B6F-86A6-409F-BE70-3E6746BA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6B5269-02C7-4501-9192-BEEA7512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DD762C-AF0E-402F-9A09-327A42A4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EC4BF9-4D19-4676-9A67-076FDD8E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592D5D-FA74-4B82-9EAD-385F92FA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D977AE0-02C5-481F-AE24-C636859C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4AF61A-7088-403E-A378-D37159DB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DF598B-B731-4D51-8835-75F9F84A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6F63CB-326B-4318-AAF0-C408E056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E467D-0FBA-4150-8185-6B5CBCBF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B4B0BC-9221-40ED-ADCB-DD750497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1FCF33-0604-43A7-9730-47FF8245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B9FB54-5683-4CDE-94F9-B3E0F85B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4C8D02-FB9F-4D42-B056-AA30B39A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1CA2F9-3AD7-469E-81CB-5361053B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0AC1E9-1683-4D96-B1DB-303F386B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8CB2B3E-4D54-4574-AC7A-4A4D03ED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6E1216-F3FA-4C1C-889C-51394EAD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422462-4358-44B3-87F0-79F83FD0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2AC2BF-4075-45CA-9D81-6D7478C8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2BA27-B091-49AE-A479-E2AC4D79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F36D8C5-E5E0-432E-8FF4-3737B785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0060CA-55FC-498B-A177-3310C778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2DB042-B91B-40FF-9570-3AF0B91C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514C0D-5CA4-4921-8D99-6C03AB1D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19FAE0-D237-4A8B-B832-AFADC3C4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77ED25-10DF-452C-A6BF-2621209B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72E42A-2EBD-43CB-AF2A-4D20D638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2B5B75-B1B8-47B1-8EBB-2A5E9956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DDA8C5-D49A-4215-9C08-EBF05CCC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68A46B-9256-426E-9B93-47594D99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A197-36BF-4DBA-9AB5-E7C5B028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40FE7-741E-4704-A44A-FA467BCA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46E29A-8E8E-4DF6-80F0-AD2D39D9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5012D89-40E9-45E0-8BE2-9DD718BA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34DCCE-1A77-454E-9397-A4E99507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3D5EE5-E0DE-4E89-88AB-CF2D6B18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D5DB2A-AE2B-4764-A1EB-434E9704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52FCD7-2E9E-4553-8606-7ACA02F6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22F946-56C6-49E9-9EAB-55F40614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606F48-97CF-42C1-91B0-B27043E7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E9A4717-B5E1-4260-BD6C-D0A1176D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857C991-3AED-4A43-A0F8-918B0048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F7431-88EA-4119-AAB2-547FF965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4A35116-02C4-4C35-A793-6F0ED62D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D465B4-9F8A-448E-B790-96D3371D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576FFE-5B9F-4124-B2EC-F8CF22E2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A5ADC0-9361-48AF-B8C7-7AF90E29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9DC86C-F02B-466A-B39C-25337E95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5A52A1-E4FB-439A-8DE0-97DB3FFB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772C7B0-2A4C-4609-8F0D-18AF7C05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F1F9A9C-4A16-40B1-8A0B-C71320FC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8E5D889-152B-460B-BB96-6199512B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1D3899-22B7-495A-9707-46F18EFA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008B6-4FC8-45DF-A73A-BA5BF47E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A1F40AD-0AA6-45AE-BA7F-B3D8D916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4B2949-B2F0-4574-B688-0088BDBC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B10589-9480-4454-BD24-62A8DEF4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2985BA-F2F8-4454-A5EA-82BCE857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932A7D-7204-4964-9ACA-C7E935C2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4849731-DB05-492D-A7F3-BE90B584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F6EA7A-6996-4B07-8C43-5D281259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49BE8D-8A14-4863-87C1-502CF0C0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8894C4-AF39-444A-B0E6-DB3AD99F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122D61-BED6-4686-9423-AAD82C2C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61080-AFF3-4C6F-9134-3C60F573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F7112F-A175-4ABD-ADFB-5259F75C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E6DB32-7CBE-42E5-A7D6-7DAC8A5A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ECE6E6-BF9F-401A-A2B7-08A6CB0D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9DDDD4-1176-4DA1-9C86-66404B8C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DEB66C4-2C05-4F7C-9725-D496B57A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B730A7-E696-4FB7-A962-028C0BF1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7B45A6-5505-4295-8F45-88256888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6AADA69-BDF3-4D0E-BACC-A092E5E5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9EB464-13ED-4972-BDB4-0A133ACA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0C9A22-0A75-432F-AE73-4D2D9EB4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B26F6-F505-42F4-A556-1E945740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0A830AC-C1D5-47FF-B9EB-A233503B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52E6FE1-F7D7-44B9-8E84-34A7A383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B0169C6-7384-4C6D-B168-E183BBB5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20DF69C-90CA-493A-AAE0-88C6B4FD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EB45741-F6EE-4D2B-93D9-CE4935C2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CB209-CCB5-4E7A-8961-585D974B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2FEE6-5528-4E5D-A076-A0255E65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2126D-3F78-470E-AFCC-654F3F16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897BD-E605-40ED-B365-1F6703BF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1BE71-248B-4FF7-AE73-7EC3E806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BCD3-70E7-4864-A242-65A1C2C7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87471-5021-4F65-AA23-81A7296D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8D412-9B6E-40AB-A080-5FA542AE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A9DF8-3E98-45E8-9329-B591F20E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4989E-19EA-4732-B713-304BAA34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ACBAE-2AA2-45A7-9198-B9BB1C6F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271AA-790B-4D55-91BD-5C95F3E4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889DA-FB2B-4F31-AA29-912648A6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CD13C-59C5-4C9D-B3FB-C3860D35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F0959-4D2C-4B38-84DE-66C363CE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F0393-3CBC-4EE5-AFE8-250B650E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F83-F154-4DCB-ACD8-9F6F8DF7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96B34-1FD3-43A5-9C44-2DA433B7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C3134-D9F2-4CF1-89B8-F0037575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5F08F-DB5C-40E5-80AE-DC28E90A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4E824-7BA2-4533-B7A2-9BDA01B6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F304F-3E5E-4D5E-8408-9DBAF7CC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D105B-5122-4156-B8B9-2D798A33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F1D74-335D-466A-8175-AACA2B7E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C97B5-5B9C-453E-9D39-3B97C03D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5DF3B-0605-421F-92F2-74F7C1D2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55E63-143D-4979-9E60-1A6B583F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CF6-DEEF-495D-BD36-8D96AAC0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FB6E7-8A42-45F4-8D29-B4426F51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F0AC6-DDD1-4057-B2A6-15A2BEC4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11A26-2771-4C0F-864D-4AFCE89B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FC283-7A93-41FA-91AB-9D9A828B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94404-F1A9-44A0-8CCD-CB59EF34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EDB0F-D73C-4EA6-A419-6A207E5C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1377D-19C4-4A07-9AED-5308586A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1B61B-CDD2-40D5-B289-1625ED02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713E9-A903-411A-AB5F-8D793634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B1A24-0166-4298-A54B-1632CDFE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9B1-CE5A-4380-996D-8A2328E9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99D3D-E8C6-4E32-ACAC-264B7A88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C81A5-AD28-4057-95C0-90EDBDAA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1A988-2954-4951-B5B8-3589CFAA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9369F-AEE4-4C9A-9472-1971D905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4CBED-CBE3-4CBB-8D25-D432BB47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5779B-4C68-4288-BC81-12BD0F0C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BC472-B493-49B2-8575-87B4E2C9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822E8-98E5-4CF5-BDDF-1232EA3F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66595-299D-430C-B1C8-CDF939B5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D63D3-5DB9-4665-B2EC-8003AABD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ADE-A929-4004-99B8-93A790A2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257B8-82F2-45D8-9165-86E9374B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A9FCE-90A2-4496-84AC-62835652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E96A9-7959-45A5-9B0F-9457A993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2CB43-5CE8-4CB5-8A9B-9850D549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C023D-0462-43CE-A6BA-F4D2BFB3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414A1-E5C7-4C20-9D31-545A2DEB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30688-B9A0-4013-83A2-8474EA09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BDA64-209C-4964-809C-167BE742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9F4E3-8E3F-4F58-AF9F-23374F15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6911A-C786-48CD-8178-3CF40D4E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5AC6-B51B-4648-9779-7899F120A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76FC-35B9-4CA9-B263-C9B592FE4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E209-7267-47F4-B5EA-6755DB99B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F9B4-F6E5-4581-A7FA-C45B4DDE5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A15B-DB43-4DEE-B41A-1F43BB2E0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15FB-7B93-450F-BB80-ED5967680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805D-9888-4147-8F79-48AF909D6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AEB3-E53F-4107-899F-892A0962F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5FBC-1018-4F09-B9BD-84039098A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244D-3038-4851-B928-E8F413643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000D-75D1-4F5F-AC66-74073E22E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7FE5-6ED5-4029-A5F4-B66B94110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65B2-E988-404B-8B3A-E46AC091A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DA0A-6578-4808-83A0-C7A10D04A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C6A8-D796-4E16-BA84-5B1AB49F5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D600-93C7-4E99-B475-CC53BD277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87D3-38A6-41B0-B5E6-DA03B5202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81B9-122A-473D-802C-6DDEF9C1E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DB8E-1BE5-4258-A1BF-85577975A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9270-239B-4370-8FE2-F77B2000D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B8D1-110A-4550-B38F-5E7D33C82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030A-041C-4ACC-A1BA-C502A588B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999F-8360-4E20-8129-41B482804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0872-CC41-4F73-A18F-836BAC2E8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6862-A311-4FE4-BBF2-D0F35F651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142E-665E-4B96-97FD-AB45D348A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32DD-5C8E-4EE5-A810-7644978A7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0C0F-F971-4DE5-8459-B25E675BA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44B7-A7B2-4EEB-A277-D6405527B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4A4D-6F89-4838-9A16-0EC733FB5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5A53-051D-494B-B593-61882D110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6C9B-E834-4699-8E15-332A31D50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DB6D-F878-4445-94FC-D8F41CD92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F698-F7CE-4582-838E-AEF59E0C0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60B3-B4BC-4CD0-A331-738AAC154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2A0F-B369-4880-83C3-624A26BA8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ED5A-DA17-4C58-963A-68D3BE310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edu.pe.ca/southernkings/landforms.htm" TargetMode="External"/><Relationship Id="rId5" Type="http://schemas.openxmlformats.org/officeDocument/2006/relationships/hyperlink" Target="http://members.enchantedlearning.com/geography/landforms/glossary.shtml?p" TargetMode="External"/><Relationship Id="rId6" Type="http://schemas.openxmlformats.org/officeDocument/2006/relationships/hyperlink" Target="http://www.google.com/earth/index.html" TargetMode="External"/><Relationship Id="rId7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4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7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279900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2" descr="C:\Documents and Settings\sramsey\Local Settings\Temporary Internet Files\Content.IE5\FY2OJR7E\MC900438074[1].png"/>
          <p:cNvPicPr/>
          <p:nvPr/>
        </p:nvPicPr>
        <p:blipFill>
          <a:blip r:embed="rId3"/>
          <a:stretch/>
        </p:blipFill>
        <p:spPr>
          <a:xfrm>
            <a:off x="3200400" y="3352680"/>
            <a:ext cx="2743200" cy="2438640"/>
          </a:xfrm>
          <a:prstGeom prst="rect">
            <a:avLst/>
          </a:prstGeom>
          <a:ln w="0">
            <a:noFill/>
          </a:ln>
        </p:spPr>
      </p:pic>
      <p:sp>
        <p:nvSpPr>
          <p:cNvPr id="1519" name="Rectangle 3"/>
          <p:cNvSpPr/>
          <p:nvPr/>
        </p:nvSpPr>
        <p:spPr>
          <a:xfrm>
            <a:off x="6019920" y="3886200"/>
            <a:ext cx="25146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lick here for pictures of land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Rectangle 4"/>
          <p:cNvSpPr/>
          <p:nvPr/>
        </p:nvSpPr>
        <p:spPr>
          <a:xfrm>
            <a:off x="152280" y="3962520"/>
            <a:ext cx="28958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lick here for a glossary of land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Rectangle 5"/>
          <p:cNvSpPr/>
          <p:nvPr/>
        </p:nvSpPr>
        <p:spPr>
          <a:xfrm>
            <a:off x="3124080" y="5791320"/>
            <a:ext cx="28195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google.com/earth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oup or chain of islands clustered together in a sea or ocea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Picture 3" descr="bd00028_"/>
          <p:cNvPicPr/>
          <p:nvPr/>
        </p:nvPicPr>
        <p:blipFill>
          <a:blip r:embed="rId1"/>
          <a:stretch/>
        </p:blipFill>
        <p:spPr>
          <a:xfrm>
            <a:off x="2819520" y="3429000"/>
            <a:ext cx="30985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rchipelag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1" name="Picture 7" descr="The World Archipelago, Persian Gulf"/>
          <p:cNvPicPr/>
          <p:nvPr/>
        </p:nvPicPr>
        <p:blipFill>
          <a:blip r:embed="rId1"/>
          <a:stretch/>
        </p:blipFill>
        <p:spPr>
          <a:xfrm>
            <a:off x="3733920" y="2362320"/>
            <a:ext cx="4647960" cy="4038480"/>
          </a:xfrm>
          <a:prstGeom prst="rect">
            <a:avLst/>
          </a:prstGeom>
          <a:ln w="0">
            <a:noFill/>
          </a:ln>
        </p:spPr>
      </p:pic>
      <p:pic>
        <p:nvPicPr>
          <p:cNvPr id="1542" name="Picture 9" descr="Click to show &quot;archipelago&quot; result 4"/>
          <p:cNvPicPr/>
          <p:nvPr/>
        </p:nvPicPr>
        <p:blipFill>
          <a:blip r:embed="rId2"/>
          <a:stretch/>
        </p:blipFill>
        <p:spPr>
          <a:xfrm>
            <a:off x="990720" y="2133720"/>
            <a:ext cx="2286000" cy="3733560"/>
          </a:xfrm>
          <a:prstGeom prst="rect">
            <a:avLst/>
          </a:prstGeom>
          <a:ln w="0">
            <a:noFill/>
          </a:ln>
        </p:spPr>
      </p:pic>
      <p:pic>
        <p:nvPicPr>
          <p:cNvPr id="1543" name="Picture 5" descr="http://members.enchantedlearning.com/agifs/archipelago.GIF"/>
          <p:cNvPicPr/>
          <p:nvPr/>
        </p:nvPicPr>
        <p:blipFill>
          <a:blip r:embed="rId3"/>
          <a:stretch/>
        </p:blipFill>
        <p:spPr>
          <a:xfrm>
            <a:off x="6858000" y="838080"/>
            <a:ext cx="12002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WordArt 5" descr=""/>
          <p:cNvPicPr/>
          <p:nvPr/>
        </p:nvPicPr>
        <p:blipFill>
          <a:blip r:embed="rId1"/>
          <a:stretch/>
        </p:blipFill>
        <p:spPr>
          <a:xfrm>
            <a:off x="835200" y="828720"/>
            <a:ext cx="717516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5" name="Picture 9" descr="http://floridagulfofmexico.com/images/gulfmap.jpg"/>
          <p:cNvPicPr/>
          <p:nvPr/>
        </p:nvPicPr>
        <p:blipFill>
          <a:blip r:embed="rId1"/>
          <a:stretch/>
        </p:blipFill>
        <p:spPr>
          <a:xfrm>
            <a:off x="1905120" y="1295280"/>
            <a:ext cx="7010280" cy="5029200"/>
          </a:xfrm>
          <a:prstGeom prst="rect">
            <a:avLst/>
          </a:prstGeom>
          <a:ln w="0">
            <a:noFill/>
          </a:ln>
        </p:spPr>
      </p:pic>
      <p:pic>
        <p:nvPicPr>
          <p:cNvPr id="1546" name="Rectangle 2" descr=""/>
          <p:cNvPicPr/>
          <p:nvPr/>
        </p:nvPicPr>
        <p:blipFill>
          <a:blip r:embed="rId2"/>
          <a:stretch/>
        </p:blipFill>
        <p:spPr>
          <a:xfrm>
            <a:off x="5389560" y="3139920"/>
            <a:ext cx="2936880" cy="1140120"/>
          </a:xfrm>
          <a:prstGeom prst="rect">
            <a:avLst/>
          </a:prstGeom>
          <a:ln w="0">
            <a:noFill/>
          </a:ln>
        </p:spPr>
      </p:pic>
      <p:pic>
        <p:nvPicPr>
          <p:cNvPr id="1547" name="Picture 5" descr="http://members.enchantedlearning.com/ggifs/Gulf.GIF"/>
          <p:cNvPicPr/>
          <p:nvPr/>
        </p:nvPicPr>
        <p:blipFill>
          <a:blip r:embed="rId3"/>
          <a:stretch/>
        </p:blipFill>
        <p:spPr>
          <a:xfrm>
            <a:off x="1143000" y="914400"/>
            <a:ext cx="12002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WordArt 3"/>
          <p:cNvSpPr txBox="1"/>
          <p:nvPr/>
        </p:nvSpPr>
        <p:spPr>
          <a:xfrm>
            <a:off x="1371600" y="1447920"/>
            <a:ext cx="5943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Lucida Calligraphy"/>
              </a:rPr>
              <a:t>What is… 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lligraphy"/>
              <a:ea typeface="Lucida Calligraph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1550" name="Rectangle 4"/>
          <p:cNvSpPr/>
          <p:nvPr/>
        </p:nvSpPr>
        <p:spPr>
          <a:xfrm>
            <a:off x="2286000" y="2666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Calligraphy"/>
              </a:rPr>
              <a:t>A body of land that is surrounded by water on three s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1" name="Picture 9" descr="http://upload.wikimedia.org/wikipedia/commons/thumb/f/f6/Satellite_image_of_Italy_in_March_2003.jpg/250px-Satellite_image_of_Italy_in_March_2003.jpg"/>
          <p:cNvPicPr/>
          <p:nvPr/>
        </p:nvPicPr>
        <p:blipFill>
          <a:blip r:embed="rId1"/>
          <a:stretch/>
        </p:blipFill>
        <p:spPr>
          <a:xfrm>
            <a:off x="457200" y="1447920"/>
            <a:ext cx="4952880" cy="4047840"/>
          </a:xfrm>
          <a:prstGeom prst="rect">
            <a:avLst/>
          </a:prstGeom>
          <a:ln w="0">
            <a:noFill/>
          </a:ln>
        </p:spPr>
      </p:pic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WordArt 3"/>
          <p:cNvSpPr txBox="1"/>
          <p:nvPr/>
        </p:nvSpPr>
        <p:spPr>
          <a:xfrm>
            <a:off x="1219320" y="914400"/>
            <a:ext cx="65530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Goudy Stout"/>
              </a:rPr>
              <a:t>A Peninsul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Goudy Stout"/>
              <a:ea typeface="Goudy Stout"/>
            </a:endParaRPr>
          </a:p>
        </p:txBody>
      </p:sp>
      <p:pic>
        <p:nvPicPr>
          <p:cNvPr id="1554" name="Picture 6" descr="ag00037_"/>
          <p:cNvPicPr/>
          <p:nvPr/>
        </p:nvPicPr>
        <p:blipFill>
          <a:blip r:embed="rId2"/>
          <a:stretch/>
        </p:blipFill>
        <p:spPr>
          <a:xfrm>
            <a:off x="5257800" y="2743200"/>
            <a:ext cx="1303200" cy="1714680"/>
          </a:xfrm>
          <a:prstGeom prst="rect">
            <a:avLst/>
          </a:prstGeom>
          <a:ln w="0">
            <a:noFill/>
          </a:ln>
        </p:spPr>
      </p:pic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cc0099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228240" y="160020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Script MT Bold"/>
              </a:rPr>
              <a:t>What is a narrow strip of land connecting two larger landmasses. It  has water on two sid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7" name="Picture 7" descr="http://upload.wikimedia.org/wikipedia/commons/thumb/8/81/Pm-map.png/450px-Pm-map.png"/>
          <p:cNvPicPr/>
          <p:nvPr/>
        </p:nvPicPr>
        <p:blipFill>
          <a:blip r:embed="rId1"/>
          <a:stretch/>
        </p:blipFill>
        <p:spPr>
          <a:xfrm>
            <a:off x="1447920" y="609480"/>
            <a:ext cx="6400800" cy="4705560"/>
          </a:xfrm>
          <a:prstGeom prst="rect">
            <a:avLst/>
          </a:prstGeom>
          <a:ln w="0">
            <a:noFill/>
          </a:ln>
        </p:spPr>
      </p:pic>
      <p:sp>
        <p:nvSpPr>
          <p:cNvPr id="15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1028"/>
          <p:cNvSpPr/>
          <p:nvPr/>
        </p:nvSpPr>
        <p:spPr>
          <a:xfrm>
            <a:off x="2743200" y="304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wcard Gothic"/>
              </a:rPr>
              <a:t>An Isth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1029"/>
          <p:cNvSpPr/>
          <p:nvPr/>
        </p:nvSpPr>
        <p:spPr>
          <a:xfrm>
            <a:off x="4648320" y="91440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1" name="Picture 2" descr=""/>
          <p:cNvPicPr/>
          <p:nvPr/>
        </p:nvPicPr>
        <p:blipFill>
          <a:blip r:embed="rId2"/>
          <a:stretch/>
        </p:blipFill>
        <p:spPr>
          <a:xfrm>
            <a:off x="-12600" y="3986280"/>
            <a:ext cx="29019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129528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Showcard Gothic"/>
              </a:rPr>
              <a:t>What is a narrow body of water that connects two larger bodies of wa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Rectangle 3"/>
          <p:cNvSpPr/>
          <p:nvPr/>
        </p:nvSpPr>
        <p:spPr>
          <a:xfrm>
            <a:off x="393840" y="11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4" name="Picture 6" descr="http://upload.wikimedia.org/wikipedia/commons/thumb/c/cf/Strait_of_gibraltar.jpg/300px-Strait_of_gibraltar.jpg"/>
          <p:cNvPicPr/>
          <p:nvPr/>
        </p:nvPicPr>
        <p:blipFill>
          <a:blip r:embed="rId1"/>
          <a:stretch/>
        </p:blipFill>
        <p:spPr>
          <a:xfrm>
            <a:off x="3200400" y="914400"/>
            <a:ext cx="5486400" cy="3876840"/>
          </a:xfrm>
          <a:prstGeom prst="rect">
            <a:avLst/>
          </a:prstGeom>
          <a:ln w="0">
            <a:noFill/>
          </a:ln>
        </p:spPr>
      </p:pic>
      <p:sp>
        <p:nvSpPr>
          <p:cNvPr id="1565" name="WordArt 3"/>
          <p:cNvSpPr txBox="1"/>
          <p:nvPr/>
        </p:nvSpPr>
        <p:spPr>
          <a:xfrm>
            <a:off x="304920" y="304920"/>
            <a:ext cx="2895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ra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66" name="Line 4"/>
          <p:cNvSpPr/>
          <p:nvPr/>
        </p:nvSpPr>
        <p:spPr>
          <a:xfrm>
            <a:off x="2057400" y="1981080"/>
            <a:ext cx="2971800" cy="17528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WordArt 4"/>
          <p:cNvSpPr txBox="1"/>
          <p:nvPr/>
        </p:nvSpPr>
        <p:spPr>
          <a:xfrm>
            <a:off x="990720" y="1219320"/>
            <a:ext cx="67388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What is part of a lar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body of water th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extends into land 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and is smaller than a gulf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WordArt 2"/>
          <p:cNvSpPr txBox="1"/>
          <p:nvPr/>
        </p:nvSpPr>
        <p:spPr>
          <a:xfrm>
            <a:off x="2362320" y="609480"/>
            <a:ext cx="4876560" cy="12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What i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  <p:sp>
        <p:nvSpPr>
          <p:cNvPr id="1568" name="WordArt 3"/>
          <p:cNvSpPr txBox="1"/>
          <p:nvPr/>
        </p:nvSpPr>
        <p:spPr>
          <a:xfrm>
            <a:off x="914400" y="2133720"/>
            <a:ext cx="7696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stream  or  river  that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f lows into a larger river.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7" descr="File:Glomma meets tributary Vorma.JPG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1570" name="Text Box 1027"/>
          <p:cNvSpPr/>
          <p:nvPr/>
        </p:nvSpPr>
        <p:spPr>
          <a:xfrm>
            <a:off x="1295280" y="20574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1028"/>
          <p:cNvSpPr/>
          <p:nvPr/>
        </p:nvSpPr>
        <p:spPr>
          <a:xfrm>
            <a:off x="1066680" y="15238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"/>
              </a:rPr>
              <a:t>A Tribut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029"/>
          <p:cNvSpPr/>
          <p:nvPr/>
        </p:nvSpPr>
        <p:spPr>
          <a:xfrm>
            <a:off x="2057400" y="2438280"/>
            <a:ext cx="1752480" cy="2057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3" name="Picture 5" descr="indian-head-b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4" name="WordArt 6"/>
          <p:cNvSpPr txBox="1"/>
          <p:nvPr/>
        </p:nvSpPr>
        <p:spPr>
          <a:xfrm>
            <a:off x="2209680" y="2971800"/>
            <a:ext cx="93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rge natural stream of water that runs through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6" name="Picture 3" descr="bd00028_"/>
          <p:cNvPicPr/>
          <p:nvPr/>
        </p:nvPicPr>
        <p:blipFill>
          <a:blip r:embed="rId1"/>
          <a:stretch/>
        </p:blipFill>
        <p:spPr>
          <a:xfrm>
            <a:off x="2819520" y="3429000"/>
            <a:ext cx="30985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iv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8" name="Picture 3" descr="river"/>
          <p:cNvPicPr/>
          <p:nvPr/>
        </p:nvPicPr>
        <p:blipFill>
          <a:blip r:embed="rId1"/>
          <a:stretch/>
        </p:blipFill>
        <p:spPr>
          <a:xfrm>
            <a:off x="1219320" y="1676520"/>
            <a:ext cx="6686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What is a large body of water that is completely surrounded by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0" name="Picture 2" descr="Maxwell%2520Bay%2520Lake%2520View%252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1" name="Text Box 3"/>
          <p:cNvSpPr/>
          <p:nvPr/>
        </p:nvSpPr>
        <p:spPr>
          <a:xfrm>
            <a:off x="2209680" y="18288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ckwell Extra Bold"/>
              </a:rPr>
              <a:t>L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4"/>
          <p:cNvSpPr/>
          <p:nvPr/>
        </p:nvSpPr>
        <p:spPr>
          <a:xfrm>
            <a:off x="3124080" y="2590920"/>
            <a:ext cx="15242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Text Box 1026"/>
          <p:cNvSpPr/>
          <p:nvPr/>
        </p:nvSpPr>
        <p:spPr>
          <a:xfrm>
            <a:off x="1508040" y="118440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 Box 1027"/>
          <p:cNvSpPr/>
          <p:nvPr/>
        </p:nvSpPr>
        <p:spPr>
          <a:xfrm>
            <a:off x="1371600" y="28954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body of land completely surrounded by wa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5" name="Picture 1026" descr="Fr-island"/>
          <p:cNvPicPr/>
          <p:nvPr/>
        </p:nvPicPr>
        <p:blipFill>
          <a:blip r:embed="rId1"/>
          <a:stretch/>
        </p:blipFill>
        <p:spPr>
          <a:xfrm>
            <a:off x="685800" y="609480"/>
            <a:ext cx="8001000" cy="5872320"/>
          </a:xfrm>
          <a:prstGeom prst="rect">
            <a:avLst/>
          </a:prstGeom>
          <a:ln w="0">
            <a:noFill/>
          </a:ln>
        </p:spPr>
      </p:pic>
      <p:sp>
        <p:nvSpPr>
          <p:cNvPr id="1536" name="Text Box 1027"/>
          <p:cNvSpPr/>
          <p:nvPr/>
        </p:nvSpPr>
        <p:spPr>
          <a:xfrm>
            <a:off x="4267080" y="1295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1028"/>
          <p:cNvSpPr/>
          <p:nvPr/>
        </p:nvSpPr>
        <p:spPr>
          <a:xfrm flipH="1">
            <a:off x="3504960" y="19810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3:50:16Z</dcterms:created>
  <dc:creator>STUDENT</dc:creator>
  <dc:description/>
  <dc:language>en-US</dc:language>
  <cp:lastModifiedBy>poweruser</cp:lastModifiedBy>
  <dcterms:modified xsi:type="dcterms:W3CDTF">2011-09-27T19:43:37Z</dcterms:modified>
  <cp:revision>34</cp:revision>
  <dc:subject/>
  <dc:title>Slide 1</dc:title>
</cp:coreProperties>
</file>